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51F1-DC82-4A22-9035-588C691F1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B34A-AC13-4938-A206-ED4F07B80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181D53-B6DA-48B6-A833-57AE604A7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4B93B7-5052-4B43-90CA-40A186C9E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F241C9-AA6D-4CA1-9AA3-938093F85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995B4B-DD5F-41E9-A74B-57C7B2EEF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B44209-1D61-4723-AA7E-A8E52A15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DF0184-D49D-489E-A9AE-82B3A7B81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61793C-85F0-4050-8DF5-D2170D3D6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B6641F-BE3B-4F13-A266-1F180E431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A58125-DEDB-490F-A5A8-D85C309C3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BD643D-E9F6-4F70-B0A8-7A335EF2F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2383-66FC-47B3-A3BC-DB88998E5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580690-093B-4E68-8BE9-A47229582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C82A32-E4DC-4383-BCBB-0DF3417C6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24AE61-5379-41D5-B238-963948FDD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4AE2FB-30EC-49D3-98C1-DBCD62C4C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74D4EC-943B-47C8-AC34-EC36A465B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798E14-CFC5-46FB-8889-A02E2470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39165D-4237-4C8F-9074-D781E8B0E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CD151F-B63B-46B3-BFC4-EF7EC2A08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FFCDBE-5EE0-4DAC-8748-FF380CB0E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63D080-7910-4812-9D9C-FCAB6F9F6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811B-1340-4483-AEF8-F7F4ECFD3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F07863-CBC1-43E1-A982-0D7CC7B31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FB6F2D-438D-4B1F-B72C-7BF66A51B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8311AC-C4BB-4B8D-BFBA-8BB26ABEB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FF2F8C-EA39-48A8-9F28-DFAC05B1A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505E31-F9FC-49B5-A05A-4FC3E9846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ACE756-E0DD-426D-B24C-27B87E99A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F4BAB8-B628-4A82-8E99-20123ED52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CD0570-CBCD-40E6-BAB5-AA27C6B2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BCE5A5-5F87-471D-A286-C9BD1151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D271A2-A96D-4E4B-B4D7-112A572B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1331F-EFCA-4618-AB84-6E14FC396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709958-6088-4EE9-81B6-1181F0FE6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ABFC1D-65FD-45AA-9673-3F4AE17E7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23BDA4-E49E-4097-8957-B33B4BD5B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F6CA80-4CFA-471C-BED0-6C684D3A6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FA02FD-469D-4389-9203-16C9377D8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987886-D102-4EBD-8E16-114776B38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005D4F-6DDF-43C5-9866-60553F52E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9BFD80-2EB3-4EB4-B34E-6850DD2C6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F652A2-67E2-4493-9179-A2A49D905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898759-72C3-4708-9FC0-EAF54049F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3F06E-11E7-4478-8EC3-FB3DD69A4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726495-3D3E-4E6B-968F-6A5E68DE5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96CC6D-5D92-4FFF-9B31-00020989E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1F2880-F185-40B5-A03D-11AF2D127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793F5E-8647-4DD9-AEA9-F0BEC520E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7E6377-DB3B-48BE-B3E9-D36E4259A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A7DDD-C0CF-4F16-9C05-26D9A2D2C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74F55-2B60-4893-9B03-3987D403B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F3F61-05A1-4666-B8F4-319C7C169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4D7E5-6564-413E-A4E0-F77B59B49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DBACD-AF65-4A99-A2F6-8A47CB861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4DFE-6A52-4ED2-89B3-9AC558AB0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05D45-5F75-4266-8B96-ACC01D730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4CCB7-C56F-4052-82A2-14C8E99A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BA6A2-DBF3-492A-B52D-D99DB8234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4F034-C75F-4F4C-8054-939A72417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F2A6D-FACC-4D00-925B-3F750C87D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CE844-EE5C-4972-B120-D6EBDE110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46050-48AC-44BF-863D-66F215A5B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8983F-D1C6-4BA5-8F30-F0C431508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D9BB4-ABA8-47AC-AF5D-DB91DF4D3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AD52A-6A36-49AD-88D1-19417ABA2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1015-11B0-4366-B37A-715B4F94C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3B125-C985-4D18-96E5-E98C9007C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8FD2D-FCBD-4309-9A90-9F3DAA6D9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01332-0724-4542-ADB5-482A9BD60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6D0A6-6DA7-49C8-96C5-F89BC2295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7FEE5-9E0D-4488-A7C8-0470FA28E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A7CFB-FC25-46DD-8E6A-1F7837D2E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C5A69-39F6-4660-8D0A-ADF2E996B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C9328-F78A-4678-9654-2B528FE74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03B5A-7B61-4C56-ABD5-8C5ECFEC3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C7D74-4329-46F7-8441-C6B4D7647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5A57-FDB3-41ED-965A-56A472B9C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32D8F-56C0-443C-9314-A3E7A3E0D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43487-7AD5-47F5-BDFA-372855A13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D8B7E-5A39-4B0A-8FAF-55D231343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42E77-FE02-4DC7-9478-A731DECBF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2D638-DBE7-4E50-8D4C-27662E7AA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02739-BC89-4A62-A046-5B4D7002E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B26B8-0199-4CA5-ADE4-B668C2475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38856-CEFF-4FA1-9D9F-4A5DA8C5A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D0E47-497B-4550-AA5F-EBD7D528E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B1AE8-89D6-4459-BF30-830D4E481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AEDA-5223-4BDE-ACBD-7F65650B5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4D447-6561-4822-A2E7-786076C5D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AF154-91C2-4269-9202-CF21AB0DE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8BFE5-76F3-45A0-99C8-0C427BF99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47664C-42A8-4FA4-BDA7-C8223D976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DA541-CBF2-4170-993B-74B7CF2DD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897AF-3B3D-4BFB-AA56-61DB9EA3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BCE35-C493-4BFE-BE4E-3D1DECEDD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14EEF0-70D8-4607-8275-162E23E4A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FE06B-5E2C-40EF-A1F4-515051D79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032E71-0447-438A-87F6-7DB8DA903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6C2B-063D-4602-989A-8064D4941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B3CE7-FC43-4B8D-AF1F-3047618FF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009A12-A1DD-4FBF-ACBF-3DDAB4B1A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281419-6F15-41BC-B3CC-DB61F104E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B3A02F-91F2-4C7A-8E4F-6CC009600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A7A801-DB11-45C7-ACEE-B9709A4FB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6C8CA1-2D58-4ADD-A0D5-115865016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AFBCDD-610C-4631-8EAB-5AEF85632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DC5A91-1F31-4D8E-8F29-EA35EF28C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E77940-C1A3-45BF-952F-35A361D52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628F84-6277-4C2E-80D4-EBA02A052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0D62-0A86-43B0-BE89-CCF0435BB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8706CB-1F41-4491-A961-2C8F09AE0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389A80-73D5-422A-8DCF-A1BDF41A0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5AD5C7-BDED-4758-AE2F-0D6FDD8E5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135031-1C80-42AF-9552-32E0F3321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624F2B-182E-4177-899C-4DD9FEB77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737DBB-A072-41D8-A3F7-4F223BCD2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0F1D2D-DF0A-42F4-892F-7A4F3B8AE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20154F-011A-4CA4-9FC9-8DB0044F5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FF79FC-A807-42AF-BF5F-293B7A0AB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F95FDB-2145-4891-A934-859C418B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390F-A912-4B05-99AA-00F69C35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2F9087-0611-443C-94A6-99F5F24F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CF40EA-4C7B-44F5-AB84-A6358C9A3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BE6807-38A8-4DFA-A1C2-8CC99EF0C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A74C42-CD89-4017-B3F6-4A38E532D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B0ED3A-B51A-4B47-9700-061294540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5B1E69-93B1-4DEB-AE93-6810F888E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15C3F3-0DF9-40D4-B76D-3CBB0FE06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F800DA-126F-442F-A9BE-36F187220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6FABC4-A83D-478C-932B-DB20B47C0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375645-7FCD-4A67-AE44-15F52631C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7B08-C47C-4D54-9CBF-82F0792C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69E647-3106-48D3-9225-66DE2638A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FE5295-2267-4454-B43E-7F5135249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C6A7FB-E3BB-4D6B-A330-025AC8034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220501-4985-46C0-A077-CE14B85B7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A70BBA-A5C6-4AC6-8076-BC1DBD731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658958-9658-4380-A794-05DC7F197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65D7EE-8D7F-43BB-B9A9-EE4546384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32B21A-CBCC-4B6F-AD29-21961693F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0BC69C-8374-4DB3-A0E4-041139E5E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00256E-E2F0-422E-B599-0DA6EB7BF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2583F-B361-471B-A8F6-EF37E30E588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0C81B-A7BD-4D22-AC85-7B4A2234934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BB625-D140-4B9E-BD27-3F0C2E70E32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C9215-ABC9-49EF-8C70-F2159A19BE5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CF355-9B45-4A25-9E53-11887DE8A79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83A72-99C8-45F4-8590-97E66069942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4662D-1D63-4CB4-8599-86AE68FAFAF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74188-D286-4D8B-9175-5691011761A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013E5-6930-4BAD-80F9-E8489EBD061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62BDC-304E-455C-885C-E3CA7E7103D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4E24E-4BB3-4F9F-931C-A331879BBCA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CA71F-79BB-41DE-A437-6F2250FBA13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146 Byť stále blízko teb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yť stále blízko teb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ôj Pane, túžbu m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m ísť po tvojom bok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nebyť nikdy 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iež smiem ťa lepšie pozna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d všetko mať ťa rád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ať v tebe síl zdroj stály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iť podľa tvojich rá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m každú starosť vloži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ždy do tvojich rúk le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ď miluješ ma vern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o cítim deň čo deň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m teba nasledova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tvoje meno cti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áč preto Duchom svojí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ňa hojne obdari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ne pomôž pripraviť s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onen vzácny ča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na zem prídeš v sláv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š drahý Pane, z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Ľud tvoj ťa bude víta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j ja tam túžim stá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tvoju lásku chváli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esť chcem ti piesňou vzdať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3-26T18:50:44Z</dcterms:modified>
  <cp:revision>22</cp:revision>
  <dc:subject/>
  <dc:title>Je veľký náš Pán, on slávy je Kráľ Nech do všetkých strán  spev vrúcnych znie chvál.</dc:title>
</cp:coreProperties>
</file>